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C9A-5760-42FC-BE97-CEF868B9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3D6-9EBC-4E6F-B36D-AE5E21D1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4A1-F776-43B2-A6B9-9F49A84C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6CA-EFE5-4E41-AE15-4AFAB227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20BE-1831-4211-8C51-60CB1E1C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D494-C979-4730-94F6-8A24DC39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AC93-A9FC-4CD8-98FD-35A54734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4024-3185-4005-8D2F-609CFBAD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C0BC-3321-4B0A-BDB5-71E00565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628D-D19A-45DB-928D-1FC6D8E7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84AD-8005-4F18-986F-81AA757B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B74-D9C1-4167-9EB3-6649B7E7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E42D-B63D-4CC9-9D82-51FA40CD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5E0C-B572-4B49-8E8E-28F3909D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69AE-29FC-43F7-A2FD-A346EDDF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0C1B-BBC5-45B5-8B38-A62EC14E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B9AD-E78B-418E-B259-0C120FFF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591F5-6973-42CE-978B-EF200788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51EF-03D6-49E5-BAC7-23EB95DD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9B78-930B-48BF-B8B4-9AC30558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2881F-764A-42F3-8C86-907D1866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3485-CE33-46BC-8B24-B671D38B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EDE-A5AB-4B54-B8BB-833286C8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FCDA-5583-4B5F-8BDE-41F1443B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B3E8-F5B4-436B-9F29-F848F679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CBB3-6320-439C-BFBB-3E2F0034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4292-9BD2-4F64-B884-DD223C69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6F70-7466-4104-A7E4-211396A0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8F47-7946-4A35-ACC9-6AE4DC00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EB01-45AC-4415-BA07-15C57053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6CB6F-881E-41FA-B2B4-0D0A1367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D604-2CF7-48A1-82F5-3C7F8C68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ACDB3-97CA-4C52-80AA-2DB39CF8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7E1-46DF-4955-81E4-44C7A5F8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601EA-A198-446E-B2FD-C2147F7B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BCA7-19C6-4104-9860-02DC4011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9C26-1116-4912-B51D-B09C137C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A1FB-22A5-431E-AB24-C8D1E6FA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DBBE-5F31-4586-AD5A-E3E1910F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EFBF-BC22-4248-B76B-46485D38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17FD-82C9-4BDB-B582-4FED023C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972E6-27E3-4EC7-AF72-F23A9B5B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85523-84AF-4A37-AD2A-E5A4B6F9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AD96-D630-4C08-AFDE-E9F8562D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08F-F934-44A7-830B-7D736A50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7FFE9-8985-4C5F-90E0-951335F9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D418-AAF0-4C09-8316-C60E5F02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1F473-0EF3-4B64-947F-F67F6005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EE3FB-0200-4214-B754-D5C52C1C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7BF6D-935D-4E67-989B-485F2D8B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49832-56BC-47BB-B287-3D896C1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64DE7-E965-488A-9689-4847143D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F5279-B729-480B-AC50-115BE933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09DB-E249-44C0-A3F9-19BBB134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9ABBD-5551-46A4-B845-E02D4A9E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596-9868-48CB-B34A-3677D8A1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9C15B-BEF7-40AA-A9A2-8C14CB73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60B8B-7A30-45ED-B3F4-83D13E97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8C082-D848-4700-9384-F626190C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A2F85-B028-4C10-BF5C-32FC4AB2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A845-B3ED-4CF1-AF3C-9688A2CB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0F3A5-7132-4BD1-BAA8-625F33BC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BA09-645B-4C6A-8E76-2303FFE9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056DA-C5EA-469A-81B4-842C6F3A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C0F3F-A0DD-4618-BA26-1A3118BE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3FA59-433C-40DC-9450-3D161501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30B-D010-48B3-AC66-768E6906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4DC48-6AB6-40EB-8127-B88E4607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C82DA-E3B2-47E5-B6AC-1A8BAEBD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A874D-CE50-46B6-88A3-EED113A3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E56-EB9D-4397-8319-3F342304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FEC-3F28-43FA-938A-A2D1E2F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F59D-3103-438F-8734-6E4D87A74241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B679-7353-4A20-B0CB-F964F681B4B3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EFA7-8F24-4980-8CAD-2D3CC2D49195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833A-9F5D-47D2-8169-DAC34050D724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1E4A-F2DA-4DBA-A1D3-C8FA5B69EB7E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400F-7467-410D-A5EB-775B98EE9228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log.ratestogo.com/landmarks-in-new-zealand/" TargetMode="External"/><Relationship Id="rId2" Type="http://schemas.openxmlformats.org/officeDocument/2006/relationships/hyperlink" Target="http://www.euroclubschools.co.uk/page87.ht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536400" y="426960"/>
            <a:ext cx="8186760" cy="15969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664000" y="51055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Franklin Gothic Book"/>
              </a:rPr>
              <a:t>By Ezekiel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100" spc="-1" strike="noStrike">
                <a:solidFill>
                  <a:srgbClr val="ffffff"/>
                </a:solidFill>
                <a:latin typeface="Franklin Gothic Book"/>
              </a:rPr>
              <a:t>Italy!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Italy is a great country to study. It attracted me more to go there but one thing let me down. The construct of the building was classic but lovely, I have been told that the Italian’s are very strict and not used to American’s visiting.  They have their own special food like spaghetti and pizz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100" spc="-1" strike="noStrike">
                <a:solidFill>
                  <a:srgbClr val="ffffff"/>
                </a:solidFill>
                <a:latin typeface="Franklin Gothic Book"/>
              </a:rPr>
              <a:t>More Italy!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Italy has a lot of landmarks all over them. Did you know? That Italy is shaped like a boot kicking Sicily like are rock. Venice is a city that is surrounded by water. When actually it is floating on water by tanks just like a boa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100" spc="-1" strike="noStrike">
                <a:solidFill>
                  <a:srgbClr val="ffffff"/>
                </a:solidFill>
                <a:latin typeface="Franklin Gothic Book"/>
              </a:rPr>
              <a:t>Landmarks.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The landmarks in Italy is incredible! Tall, lean ,bulky and stro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Most of the landmarks are really old and survived  natural calamities including earthquakes and lightning. The landmarks are the L.T.O.P, Colosseum, St Mark Square, Veni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New Zealand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NZ has modern structural design and is part of U.K. It is part of U.K because Captain Cook was the one who found the island. NZ has a large cultural diversity group. The food is very Europea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Landmarks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NZ has very natural and advanced landmarks. I have been to the Auckland Harbour Bridge, Mount Eden, One Tree Hill and the Auckland City Centr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Similariti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are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are western nations,culturew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are democra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are buddies with the U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have a small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are develo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y're both on crustal plate margins so both have volcanoes and earthquak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Difference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taly is an Italian speaking nation while New Zealand is an English speaking 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taly has a way longer history than NZ 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taly is not an immigration nation while NZ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taly was a big part of world war 2 while NZ was n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there is only one nation on this planet where people speak Italian. There are lots of nations where English is spoken as a first langu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taly is not lonely for it has France ,Spain and Switzerland around him while NZ is alone in the middle of the s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Credits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My Mom for some describing wor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PowerPo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Websi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blog.ratestogo.com/landmarks-in-new-zealand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euroclubschools.co.uk/page87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anks for looking at my wor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ye Now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8:17:18Z</dcterms:created>
  <dc:creator>Jovy</dc:creator>
  <dc:description/>
  <dc:language>en-US</dc:language>
  <cp:lastModifiedBy>Jovy</cp:lastModifiedBy>
  <dcterms:modified xsi:type="dcterms:W3CDTF">2011-07-13T09:38:08Z</dcterms:modified>
  <cp:revision>9</cp:revision>
  <dc:subject/>
  <dc:title>What  Is Difference Between Italy and N.Z</dc:title>
</cp:coreProperties>
</file>